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7F5-837B-47E3-8300-D1D89165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A18-84EA-4860-9A3D-DFE05CD6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A4E-6F23-42FD-9E5B-9884C24C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358-1303-4F9A-B4C6-1ED22465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5E5E-0DD0-4C3F-8CB4-9E9FFFB5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26AA-FEFA-4DDD-BC35-E516C3F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29A1-068B-4CF8-B7F8-72D8C10B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5A3-5706-49F6-99C5-DE5D6936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FE41-1FE8-4AC3-A02F-1712049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3E52-4CFC-4204-BAEE-7697E04C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795-5F6D-44CC-B236-5A7A9933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12D-E1FF-437C-952B-5B77E7E0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2357-2E46-44C2-BAF8-0590E84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8CBB-729F-4E19-A9B0-B4C2FAD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BFB8-4880-4683-BA39-A51A53B2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0BA3-6338-445A-8F09-6B6B030E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3963-7F84-4106-A4F2-26A3B74A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4BA-52EC-47E6-A092-37DE3900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8C5-C574-449A-A68F-3456508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B05-74E9-40C6-AF66-47A7F3A9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860-1780-4791-9C91-DFC754F6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EAC-AC8E-4124-8FF7-36322D4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4F2-86D0-4AA0-8A12-A7E8DD9A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4BD-7908-49B4-A09D-A791625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832-09E6-4B9D-9B82-6EDB5B530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2D2-E6BA-4E76-811F-156AF317C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8680" y="9907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4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057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5°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pete a Uni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V – legislar sob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iquezas do subso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metalurgia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gu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nergia elétrica, floresta, caça e pesc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32:49Z</dcterms:modified>
  <cp:revision>73</cp:revision>
  <dc:subject/>
  <dc:title>Apresentação do PowerPoint</dc:title>
</cp:coreProperties>
</file>